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499-7D85-4084-A180-F8A017CA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022-8656-44D6-890B-C85DF785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E11-E275-47D4-8513-899E266D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3C9-76F2-414F-AB78-8232760F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30FC-8D04-4333-84C1-00DC754F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33F2-D094-4C59-B5E8-ABA83FF1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7F73-6B70-4C2E-857E-A318B8DA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446E-19E3-45EC-AEFE-38A9141B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D2E2-A0EA-44D7-8885-59C38F90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212F-89EE-4E24-84E0-234BD20F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2892-23F5-4430-AD7E-8BEC81A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4CC-8DEA-4BBF-A57C-7BE5D6AD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108E-C991-48F1-81D2-1AD87462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C527-70E2-4837-8E32-7C32CFE9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26D6-CB2C-4508-ABE2-9517843B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5DBF-0FA6-4F66-9652-E03508E2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5631-CEC5-4EC4-93AC-1887D505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548-2429-4A9A-9A3F-9DC62340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634-364D-47B9-A6C8-CD2915FB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25C-B92F-4B1D-8A4E-6EC0D531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EAA-0CF7-4787-AB60-3DFEDE77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E62-C1D2-42B4-88EB-60098327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ACD-A474-4B2E-8753-2ADCB564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CE4-7020-4A9A-9A29-852ECDC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41A4-2486-45A3-B481-ABA084726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8968-35BD-4049-A795-AB1408E05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iki.esipfed.org/index.php/Air_Quality_Cluster" TargetMode="External"/><Relationship Id="rId3" Type="http://schemas.openxmlformats.org/officeDocument/2006/relationships/hyperlink" Target="http://wiki.esipfed.org/index.php/Air_Quality_Cluster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Workshop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8195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ir Quality Cluster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90512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9907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arth Science Information Partners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8120" y="30492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.esipfed.org/index.php/Air_Quality_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Serve as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ilitator and advis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Earth scien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nformation commun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Promot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Earth scienc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 from collection to end-u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mprove usability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Earth scienc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 and information sys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xpand the u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Earth science information – get it to the decision-ma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ducate the publ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bout Earth science and science information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65760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191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4040" y="41911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495680"/>
            <a:ext cx="2362320" cy="16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495680"/>
            <a:ext cx="2225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Q Cluster </a:t>
            </a:r>
            <a:r>
              <a:rPr b="0" i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builds </a:t>
            </a: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links</a:t>
            </a: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ng groups in order to achieve an effective use of data in decision-making that could not be achieved by any organization acting on its ow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124080"/>
            <a:ext cx="8915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onnect air quality data consumers and data produc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ringing people and ideas together for delivering earth science data to AQ researchers, managers and other users/consum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acilitate and demonstrate information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flow from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ata providers to AQ consumer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5334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1400" y="53341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methods,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56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6240" y="5759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6600" y="64008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120" y="6170760"/>
            <a:ext cx="244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648320"/>
            <a:ext cx="2362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4724280"/>
            <a:ext cx="2438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Verdana"/>
              </a:rPr>
              <a:t>AQ Cluster aids in </a:t>
            </a:r>
            <a:r>
              <a:rPr b="1" i="1" lang="en-US" sz="1300" spc="-1" strike="noStrike" u="sng">
                <a:solidFill>
                  <a:srgbClr val="cc0000"/>
                </a:solidFill>
                <a:uFillTx/>
                <a:latin typeface="Verdana"/>
              </a:rPr>
              <a:t>reuse</a:t>
            </a:r>
            <a:r>
              <a:rPr b="0" lang="en-US" sz="1300" spc="-1" strike="noStrike">
                <a:solidFill>
                  <a:srgbClr val="cc0000"/>
                </a:solidFill>
                <a:latin typeface="Verdana"/>
              </a:rPr>
              <a:t> of data, processing tools and other services </a:t>
            </a:r>
            <a:r>
              <a:rPr b="0" lang="en-US" sz="1300" spc="-1" strike="noStrike">
                <a:solidFill>
                  <a:srgbClr val="800000"/>
                </a:solidFill>
                <a:latin typeface="Verdana"/>
              </a:rPr>
              <a:t>acros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jects, programs and agenci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9400" y="41911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7120" y="53341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2209680" cy="712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581280" y="5715000"/>
            <a:ext cx="2210040" cy="42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Cluster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00960" y="838080"/>
            <a:ext cx="74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d a coordination/collaboration forum for follow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371600"/>
          <a:ext cx="7696080" cy="4495680"/>
        </p:xfrm>
        <a:graphic>
          <a:graphicData uri="http://schemas.openxmlformats.org/drawingml/2006/table">
            <a:tbl>
              <a:tblPr/>
              <a:tblGrid>
                <a:gridCol w="2590920"/>
                <a:gridCol w="5105160"/>
              </a:tblGrid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uster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Q Data Sum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ki workspace, ESIP pro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SS Architecture Implementation Pil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enario input, wiki workspace, telecon discu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NOX Data Synthesis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hop development and coordination, group preparations, wiki, suggestions for standards-based interoperability between OMI providers and AQ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.Cal Smoke Wi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ki, contributed smoke data/analysis web 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Sp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 on wiki, metadata aggregation, provide content, discussions on design; coordination with educational DataShe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762120" y="6019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nterac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SF proposal coordination, NASA proposal submissions, data lineage design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20444" r="41245" b="4009"/>
          <a:stretch/>
        </p:blipFill>
        <p:spPr>
          <a:xfrm>
            <a:off x="228600" y="2133720"/>
            <a:ext cx="4572000" cy="34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-Centric Workspace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DataSpaces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3633840" cy="195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8098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 flipV="1">
            <a:off x="3962520" y="2819520"/>
            <a:ext cx="1981080" cy="45720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809880"/>
            <a:ext cx="0" cy="129564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5812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log - Fin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352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scribe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5334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scuss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638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arth Science Information Partners (E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380880"/>
            <a:ext cx="4114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mantic Wiki: Structured (RDF) and Unstructured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, Standard Ma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y for Export/Harvesting  by Registries, Catalogs, Portals, Mashups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4440" y="16002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tadata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6:21:42Z</dcterms:created>
  <dc:creator>sf</dc:creator>
  <dc:description/>
  <dc:language>en-US</dc:language>
  <cp:lastModifiedBy>sf</cp:lastModifiedBy>
  <dcterms:modified xsi:type="dcterms:W3CDTF">2008-02-12T10:49:20Z</dcterms:modified>
  <cp:revision>20</cp:revision>
  <dc:subject/>
  <dc:title>Slide 1</dc:title>
</cp:coreProperties>
</file>